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988C-F81D-4DAE-AC8E-0C2832604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0557-B5FD-4718-B146-C12E887F1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CFE8-B8B3-4297-BFA0-32C79CEE9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709B-10D9-4362-A015-CC052034F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815F-CEAC-4A87-B5C2-F555A48C7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esenter’s 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calculate area of the triangles in the Geoboard task (BLM LGP 3.5),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Pick’s Theorem, which also works for all shapes (see TIPS Grade 7) 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struct rectangles around the triangles with two vertices of the triangle matching two vertices of the rectangle, and the third vertex of the triangle on the opposite side of the rectangle, then calculate the area of the rectangle, the right triangles, and subtract to get the area of the original triangle. </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918E-534E-489B-816F-E6A52C7FF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4CB2-E659-4F85-94DD-15C069ED0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847B-A015-45A0-B9D1-92B79F71F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5BD80-B999-4584-BF6E-BF17E1B37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7522B-E6D8-4424-8A50-EC6AD986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2B07-C5F7-457C-B4BF-3306B292C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481A5-F82E-4CD9-BEFF-F8EE8A7F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DA68E-5288-4C1A-ABED-E3C989CF3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21B16-7133-4D31-83AD-5929C21C5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2FDF5-5BE4-4CD4-B922-BBFE776AF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BBAA2-55C8-4238-A814-031A66804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47059-2407-49BF-A4FF-F5B314886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270E9-26FB-47FD-91B7-C63F662F8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4FDFA-43A9-4BAD-BC1E-3B622900A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55E4-24A3-4D1E-A78D-5E79A51C9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4972-BB82-4053-8FAA-9F393C13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C242B-5494-4F89-923F-AD0EE7991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70326-4639-49D6-A9EF-EC4DE533F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C61C5-0E76-48C0-A217-F87992C09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25387-E2DA-455A-A858-10D35E21D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3E099-05C3-4696-9805-D11856CE6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45CF-D8C4-42BA-B487-375A646B2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A7E12-7B99-4691-8050-8290ACE2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63473-4D1A-48C3-ABE5-D53036B9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65265-8F3E-4481-BB64-A42EBE5E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AF5AE-6463-41D8-8EBE-B2F901B0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C3A8-B726-4231-9FE5-DB12AB038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0F25-8E32-4BCF-869B-AEBCA22F0CF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3AFD-4F4C-408F-B8BB-EA4C1348E8D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828800" y="457200"/>
            <a:ext cx="5545080" cy="4546440"/>
          </a:xfrm>
          <a:prstGeom prst="rect">
            <a:avLst/>
          </a:prstGeom>
          <a:ln w="0">
            <a:noFill/>
          </a:ln>
        </p:spPr>
      </p:pic>
      <p:sp>
        <p:nvSpPr>
          <p:cNvPr id="92" name="Rectangle 11"/>
          <p:cNvSpPr/>
          <p:nvPr/>
        </p:nvSpPr>
        <p:spPr>
          <a:xfrm>
            <a:off x="457200" y="5029200"/>
            <a:ext cx="8229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469b"/>
                </a:solidFill>
                <a:latin typeface="Arial"/>
              </a:rPr>
              <a:t>Linear Growing Patterns Day 3 Session 2: Parallel Ques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d469b"/>
                </a:solidFill>
                <a:latin typeface="Arial"/>
              </a:rPr>
              <a:t>By Wendy Telford and Judy Dussiau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common student stumbling blocks in LGP.</a:t>
            </a: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parallel tasks that address student stumbling blocks.</a:t>
            </a: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questions for consolidating parallel tasks. </a:t>
            </a:r>
            <a:endParaRPr b="0" lang="en-US" sz="3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different strategies for creating parallel ta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Stumbling Blocks</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Discuss stumbling blocks you anticipate students having when learning about your BIG IDE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endParaRPr b="0" lang="en-US" sz="2800" spc="-1" strike="noStrike">
              <a:solidFill>
                <a:srgbClr val="000000"/>
              </a:solidFill>
              <a:latin typeface="Arial"/>
            </a:endParaRPr>
          </a:p>
        </p:txBody>
      </p:sp>
      <p:pic>
        <p:nvPicPr>
          <p:cNvPr id="99" name="" descr=""/>
          <p:cNvPicPr/>
          <p:nvPr/>
        </p:nvPicPr>
        <p:blipFill>
          <a:blip r:embed="rId1"/>
          <a:stretch/>
        </p:blipFill>
        <p:spPr>
          <a:xfrm>
            <a:off x="3505320" y="3581280"/>
            <a:ext cx="24397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Parallel Tasks</a:t>
            </a:r>
            <a:endParaRPr b="0" lang="en-US" sz="4400" spc="-1" strike="noStrike">
              <a:solidFill>
                <a:srgbClr val="0d469b"/>
              </a:solidFill>
              <a:latin typeface="Arial"/>
            </a:endParaRPr>
          </a:p>
        </p:txBody>
      </p:sp>
      <p:sp>
        <p:nvSpPr>
          <p:cNvPr id="101" name=""/>
          <p:cNvSpPr txBox="1"/>
          <p:nvPr/>
        </p:nvSpPr>
        <p:spPr>
          <a:xfrm>
            <a:off x="457200" y="1599840"/>
            <a:ext cx="8229600" cy="4724280"/>
          </a:xfrm>
          <a:prstGeom prst="rect">
            <a:avLst/>
          </a:prstGeom>
          <a:noFill/>
          <a:ln w="0">
            <a:noFill/>
          </a:ln>
        </p:spPr>
        <p:txBody>
          <a:bodyPr anchor="t">
            <a:normAutofit fontScale="98000"/>
          </a:bodyPr>
          <a:p>
            <a:pPr marL="597240" indent="-59724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BLM LGP 3.5 (Task A </a:t>
            </a:r>
            <a:r>
              <a:rPr b="0" i="1" lang="en-US" sz="2800" spc="-1" strike="noStrike">
                <a:solidFill>
                  <a:srgbClr val="000000"/>
                </a:solidFill>
                <a:latin typeface="Arial"/>
              </a:rPr>
              <a:t>OR</a:t>
            </a:r>
            <a:r>
              <a:rPr b="0" lang="en-US" sz="2800" spc="-1" strike="noStrike">
                <a:solidFill>
                  <a:srgbClr val="000000"/>
                </a:solidFill>
                <a:latin typeface="Arial"/>
              </a:rPr>
              <a:t> B)</a:t>
            </a:r>
            <a:endParaRPr b="0" lang="en-US" sz="2800" spc="-1" strike="noStrike">
              <a:solidFill>
                <a:srgbClr val="000000"/>
              </a:solidFill>
              <a:latin typeface="Arial"/>
            </a:endParaRPr>
          </a:p>
          <a:p>
            <a:pPr marL="597240" indent="-59724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ith another pair:</a:t>
            </a:r>
            <a:endParaRPr b="0" lang="en-US" sz="2800" spc="-1" strike="noStrike">
              <a:solidFill>
                <a:srgbClr val="000000"/>
              </a:solidFill>
              <a:latin typeface="Arial"/>
            </a:endParaRPr>
          </a:p>
          <a:p>
            <a:pPr lvl="1" marL="970560" indent="-522720">
              <a:spcAft>
                <a:spcPts val="2401"/>
              </a:spcAft>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ow are the tasks the same? How are they different?</a:t>
            </a:r>
            <a:endParaRPr b="0" lang="en-US" sz="2400" spc="-1" strike="noStrike">
              <a:solidFill>
                <a:srgbClr val="ff0000"/>
              </a:solidFill>
              <a:latin typeface="Arial"/>
            </a:endParaRPr>
          </a:p>
          <a:p>
            <a:pPr lvl="1" marL="970560" indent="-522720">
              <a:spcAft>
                <a:spcPts val="2401"/>
              </a:spcAft>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What stumbling blocks and big ideas are being addressed by the tasks?</a:t>
            </a:r>
            <a:endParaRPr b="0" lang="en-US" sz="2400" spc="-1" strike="noStrike">
              <a:solidFill>
                <a:srgbClr val="ff0000"/>
              </a:solidFill>
              <a:latin typeface="Arial"/>
            </a:endParaRPr>
          </a:p>
          <a:p>
            <a:pPr lvl="1" marL="970560" indent="-522720">
              <a:spcAft>
                <a:spcPts val="2401"/>
              </a:spcAft>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What do you notice about the consolidation questions for the task? What other questions could you ask to facilitate student learning?</a:t>
            </a:r>
            <a:endParaRPr b="0" lang="en-US" sz="2400" spc="-1" strike="noStrike">
              <a:solidFill>
                <a:srgbClr val="ff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1">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Parallel Tasks</a:t>
            </a:r>
            <a:endParaRPr b="0" lang="en-US" sz="4400" spc="-1" strike="noStrike">
              <a:solidFill>
                <a:srgbClr val="0d469b"/>
              </a:solidFill>
              <a:latin typeface="Arial"/>
            </a:endParaRPr>
          </a:p>
        </p:txBody>
      </p:sp>
      <p:sp>
        <p:nvSpPr>
          <p:cNvPr id="103" name=""/>
          <p:cNvSpPr txBox="1"/>
          <p:nvPr/>
        </p:nvSpPr>
        <p:spPr>
          <a:xfrm>
            <a:off x="457200" y="1599840"/>
            <a:ext cx="8229600" cy="4724280"/>
          </a:xfrm>
          <a:prstGeom prst="rect">
            <a:avLst/>
          </a:prstGeom>
          <a:noFill/>
          <a:ln w="0">
            <a:noFill/>
          </a:ln>
        </p:spPr>
        <p:txBody>
          <a:bodyPr anchor="t">
            <a:normAutofit/>
          </a:bodyPr>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te BLM LGP 3.6 (Task A or B)</a:t>
            </a:r>
            <a:endParaRPr b="0" lang="en-US" sz="2800" spc="-1" strike="noStrike">
              <a:solidFill>
                <a:srgbClr val="000000"/>
              </a:solidFill>
              <a:latin typeface="Arial"/>
            </a:endParaRPr>
          </a:p>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Aft>
                <a:spcPts val="28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te one task from BLM LGP 3.7</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Parallel Tasks Using Different Strategies</a:t>
            </a:r>
            <a:endParaRPr b="0" lang="en-US" sz="44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hanging the level of difficul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e type of model or represent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e method of solu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Using open questions or allowing choic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Other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4475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lease complete the cards on your table. </a:t>
            </a:r>
            <a:endParaRPr b="0" lang="en-US" sz="4400" spc="-1" strike="noStrike">
              <a:solidFill>
                <a:srgbClr val="0d469b"/>
              </a:solidFill>
              <a:latin typeface="Arial"/>
            </a:endParaRPr>
          </a:p>
        </p:txBody>
      </p:sp>
      <p:pic>
        <p:nvPicPr>
          <p:cNvPr id="107" name="" descr=""/>
          <p:cNvPicPr/>
          <p:nvPr/>
        </p:nvPicPr>
        <p:blipFill>
          <a:blip r:embed="rId1"/>
          <a:stretch/>
        </p:blipFill>
        <p:spPr>
          <a:xfrm>
            <a:off x="3759120" y="2514600"/>
            <a:ext cx="2032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PeelUser</cp:lastModifiedBy>
  <dcterms:modified xsi:type="dcterms:W3CDTF">2009-08-20T13:56:30Z</dcterms:modified>
  <cp:revision>149</cp:revision>
  <dc:subject/>
  <dc:title>Slide 1</dc:title>
</cp:coreProperties>
</file>